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ABF-A37E-4F96-AD94-70F153A8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AF1-FC0F-449D-A1B7-3EC40D58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E4F84-677B-47F8-AA9B-1B05E035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8655B-07AF-44D2-B219-FDA797AB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F6999-2A79-4006-AC58-FCF19F8E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00708-DE3D-4F67-9785-B2E7A00F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38EC7-BD0A-4D74-B720-DE88FAD2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4E571-5935-48DC-B512-476A2A1A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BCF07-7C1B-4C2C-AEA6-830CC23B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7012F-0443-47C4-AC02-12024C77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CFDA2-A09A-4CB6-9097-AD3F426E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36093-0F7D-41F3-A2C0-E0228E21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934-4A81-43B8-8E69-E2C3E36D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138DC-4223-4B20-B6B1-440C74A0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0E23B-1D69-4907-A8CA-E7F92943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1D641-1047-4CD0-B43D-77848F77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0C95A-0149-499B-A6AC-9F8749FB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3E1B7-B9F0-4A10-9E7C-CBEF0F34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2F7CE-090D-4441-ACFF-924658EA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0A649-6F1B-49F1-9418-D360309B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5D17C-D274-461B-8CFC-BB1FD97C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8A130-9A15-4DEA-A7EC-FB89CE70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6334F-01F9-43C9-BBDC-F0652A4A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B22-AE9E-4D5E-8F3E-109B1EE9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45A35-3B36-4E8A-8A88-70163AF1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0ED69-95D2-4098-9FB2-008F1C33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F5DE9-AC94-4EAF-B94D-40D011D7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EF43C-4EB1-4F8A-80E9-636EE846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31CD0-0B7A-4A99-A75E-AFC24CFC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94B1D-AB39-4BD0-99B2-D68B6952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25833-FD69-409C-B09F-55B03F03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ACFAE-9B68-44F6-BB78-FF144501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A16D6-458C-477B-9B93-CCFBAF7D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8C999-9DD3-46CB-9ECA-6AB5B459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30D5-F9B1-4486-83BB-AB9913DC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7CB14-52A6-44D1-9EE1-90FB0524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5B31E-112F-4FD4-8ACB-BEEFF619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313F9-11B2-440E-8071-CE10E0A6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75990-70EC-4C15-9CFA-5EFE7521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02ECC-04B9-4B90-9BEB-D28740CC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3E837-F1E0-413D-AB45-1429ABBA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872F6-3A63-40E9-B2F3-55C35DE7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D3803-4209-47AF-B050-0B555105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190F8-C0BA-4738-820C-DB9B5AC5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7D0E2-24AE-4513-B388-8DB18604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83C9-3D88-4EE9-9F02-28D74F7C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025D5-B1DE-4EA7-BF1F-C23DC0AF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7E924-CAA5-45C3-B56B-924C8A25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2B82E-0328-4174-A990-9BB89125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15764-A8E9-4B12-96FA-0A77FC62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7304A-E879-4BE8-8A1C-ECE754DD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5A6E7C-1E52-43C4-8AFF-3252E71F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EB1F4-574B-4E1A-A43F-9CDA3BE9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9A2940-FBF5-49D5-AE5F-B693E07B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E4E3E8-BBC4-463C-9C60-F7BDB0A0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0FD5C0-4280-45B1-9DD5-0B152032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0014-C5A5-4A3D-B32A-2FE16367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77AFA-7001-400F-9CB6-BCFAE02D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B9137-C5DC-44F8-B490-2104733D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53DFD-AA9C-431A-9AFF-221DFE5D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8DDFA-93A5-48F2-8111-3EA6640A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F09D7-B447-409D-96BB-139B97A4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60A55-2A84-4396-A72B-1F40CE0B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E5B87-4F8C-4A20-81E0-64A6ED2E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4C6E-702A-4708-A652-99B68614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25B0-14C3-41C9-9064-95B3DC28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6A42-FE48-490A-B570-3BC7929A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5F06-ED69-40CC-B0C3-E97EB224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A80A-E1C8-45D5-A936-B9B27AB1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7A9C-EA7E-4C29-B452-40F24822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7651-6F66-41BD-9FBD-BDD4F648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D743-83D0-4A54-B7FC-23F7B785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9EE8-B757-45D0-9CA2-34A782F5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D7EC-0C28-4879-8569-85EC2599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305B4-CC30-44C6-9EFE-9492CF7E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8AC9C-BCDB-42B9-91AD-722E6103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F352F-C36A-4410-99B1-E165EE85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6D9AE-A9BE-4214-83F4-4316B390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540FA-465A-416A-8DE3-C46F8157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6EB-010A-4CE2-9B9A-DCBF47DB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A85EA-B536-42EC-A366-4394D414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EF5E2-FEBC-4D2D-B70F-6BB5F6CB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5A312-329D-43D5-B2D6-0DA5A3D4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1A092-2798-4E31-8E10-9FCAE5C4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73EDB-9AE9-4FC5-B970-B7ADC34B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F2DE9-CA64-4884-9328-07482230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E1483-3A49-40E0-8F73-AC9DDA3B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3D1C6-FEA8-47D0-BF2C-C16A88D5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4005D-DC3B-4F2F-BD66-D1166D3F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65046-2E08-45AF-956D-3ED5B153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4775-A2B7-4575-B182-1B1E6C1B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42E1-7915-44BB-8083-CA1FBA45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5957D-8CAB-4619-97F1-3D9D402E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99932-18F7-475D-BCD5-EE42E094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497E6-46E2-4642-AA48-9989D503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F8DDE-FA2C-48E3-80D1-EA22786F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C5B1E-EAF9-4C1C-83B7-E488F205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9C5BE-3B30-4377-97BA-CE974AFB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60B13-560F-40CD-9FBF-E979D1F4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5DEDB-6295-4E13-9F8A-5E4E79D8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39777-A991-4B01-943A-C2EF2063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AF0A-2364-4625-83AD-42D80A0F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3436E-EFB9-4D7E-BCB3-F5A212A0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EAD29-5A7A-407B-96EE-29F14D77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A7404-A8BA-48B1-A6B8-27FE2156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94078-C84A-48B3-B1D9-1D97737D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3FBA3-7D58-4EDF-BAFF-6CF61140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A53BD-527A-4DB4-92E6-0490B7FC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09D1A-1D5D-467B-8C98-43C8632A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D86B2-DBCC-4CA6-ACE7-43C18724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FBAD3-A2E9-4C85-AF75-6AD2F310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75E14-55E0-431B-BB53-DB3A5F3A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18CA-118F-47DC-93A0-3FAD5523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CF58E-2590-4483-A39C-E6646C3D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1356E-FF03-40D4-9981-5BFCD19B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AB6B97-D318-4B41-9CF9-9AADAA2F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D6DBC4-0A0F-4200-B82F-2EB18AC4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7A3A08-4B2B-4337-B36E-D0736957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B84279-0B06-43BE-9D02-2517E3F0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734085-35B1-40EF-8676-BE369258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86D0A6-5010-4465-9F5A-C28908BD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785F4-D85D-4CAA-8C63-B4A66244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EFC1A3-EEE6-4C83-AF80-FF3A3F8B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CA1-30E1-4DEF-83F6-E90C9BF1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990B87-5B73-4047-9206-F5786710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244268-811E-4C30-9868-1265754F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158F94-86D5-4DC1-82A1-BC730541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52B9D-1760-4E27-8136-98D25DD4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66DD8-A4EB-4F6F-AD91-20C2F5A2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8075A-AC28-48FE-802C-DBA39792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98103-74AB-4C0A-B0A3-8640445B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C8AFF-20B1-4344-B1B9-A9B15488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B5528-F2B7-4BFA-B516-CB23D6E5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DCA54-F5B4-48BC-8832-691ED41E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AF1-3AA2-40CD-A5B9-1582AFB0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17AB5-1CB2-4C9D-A9B2-D74CBAEC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8A598-EF52-4C5D-9D31-02E6D83F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8AC60-E585-4321-935B-2595EA2B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438D4-5E9C-47B5-BC01-75BF3821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3C12E-8AD1-469D-B1EA-83C2C9EB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341A7-65FE-4E86-ABE4-17D3A73B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32EDC-B8CC-431A-9968-E97323F9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48F70-1B0D-4D7C-B766-B3A0EAA9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19E1F-26E2-474F-A72B-A9BD2DFD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13E74-53B4-4D1F-8CD0-5710DC0A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18D-0BED-4FB3-87D4-A2573FB0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E36A3-3E0F-45EE-8FB7-926B9354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2E31F-60B3-4D91-A15C-E40926D6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C845D-254B-4293-AF34-B0474D28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FAFE2-CB5B-4474-B46C-737988B4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0B4EF-147B-4662-9F56-72008880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FF2AA-DA6A-496B-8616-9D561D07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052A4-0A28-40DE-986A-F669106E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18A4E-9259-4748-BA6B-D3EFF4B2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C8FEF-A96B-425A-BCD9-87C3E36E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B528B-9743-461D-A2CF-27C36963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AF72-0F8B-4C58-8485-023E0071AFF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b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fb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de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95D6-ED32-4B4F-B426-FCD8DE3070D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0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5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5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6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191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6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6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3941-A539-489C-A901-01BE547FB36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0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0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1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F1BF-6200-4B93-B045-78188B3776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5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3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3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26D8-B174-43A2-9903-A2F578992B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0F2A-962E-49A6-BFD2-5690344AA2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3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2391-F98E-4EFB-B0FD-410DA4ACDD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b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fb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de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7D70-524A-4D8E-B3F2-263516D8540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0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2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2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2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56E7-6287-4ED2-AED2-C6135B4D67C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3133-801E-4F49-A4BF-C4D2E64C7F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7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7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8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618E-84C9-4BFA-9716-B71645A787F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373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374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76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7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79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380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CC31-3925-4841-8487-2966C58F4B6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6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6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27EC-AFA3-49FA-94AD-7659A9A715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cc00"/>
                </a:solidFill>
                <a:latin typeface="Tahoma"/>
              </a:rPr>
              <a:t>Стекло</a:t>
            </a:r>
            <a:r>
              <a:rPr b="1" lang="ru-RU" sz="8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8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706" name="Picture 7" descr="31343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7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21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22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4" descr="DSC033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3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89488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9900"/>
                </a:solidFill>
                <a:latin typeface="Arial"/>
              </a:rPr>
              <a:t>Выполнил </a:t>
            </a:r>
            <a:br>
              <a:rPr sz="4800"/>
            </a:br>
            <a:r>
              <a:rPr b="1" i="1" lang="ru-RU" sz="4800" spc="-1" strike="noStrike">
                <a:solidFill>
                  <a:srgbClr val="ff9900"/>
                </a:solidFill>
                <a:latin typeface="Arial"/>
              </a:rPr>
              <a:t>ученик </a:t>
            </a:r>
            <a:r>
              <a:rPr b="1" i="1" lang="en-US" sz="4800" spc="-1" strike="noStrike">
                <a:solidFill>
                  <a:srgbClr val="ff9900"/>
                </a:solidFill>
                <a:latin typeface="Arial"/>
              </a:rPr>
              <a:t>8</a:t>
            </a:r>
            <a:r>
              <a:rPr b="1" i="1" lang="ru-RU" sz="4800" spc="-1" strike="noStrike">
                <a:solidFill>
                  <a:srgbClr val="ff9900"/>
                </a:solidFill>
                <a:latin typeface="Arial"/>
              </a:rPr>
              <a:t> «Г» класса</a:t>
            </a:r>
            <a:br>
              <a:rPr sz="4000"/>
            </a:b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Иржов Дмитри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cc00"/>
                </a:solidFill>
                <a:latin typeface="Tahoma"/>
              </a:rPr>
              <a:t>Стекло это…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427280" y="1844640"/>
            <a:ext cx="4716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кло — один из самых древних и, благодаря разнообразию своих свойств — универсальный в практике человека материал. Физико-химически — неорганическое вещество, твёрдое тело; структурно — аморфно, изотропно; агрегатно все виды стёкол — чрезвычайно вязкая переохлаждённая жидкость, достигающая стеклообразного состояния в процессе остывания со скоростью, достаточной для предотвращения кристаллизации расплавов, получаемых в заданных температурных пределах (от 300 до 2500 ºС), которые обусловлены оксидным, фторидным или фосфатным происхождением их состав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9" name="Picture 4" descr="256"/>
          <p:cNvPicPr/>
          <p:nvPr/>
        </p:nvPicPr>
        <p:blipFill>
          <a:blip r:embed="rId1"/>
          <a:stretch/>
        </p:blipFill>
        <p:spPr>
          <a:xfrm>
            <a:off x="250920" y="2276640"/>
            <a:ext cx="439416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75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5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d59241"/>
                </a:solidFill>
                <a:latin typeface="Tahoma"/>
              </a:rPr>
              <a:t>История стекл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-181440" y="1196640"/>
            <a:ext cx="5327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 сих пор не установлено достоверно, как и где впервые было получено стекло. Долгое время первенство в открытии стеклоделия признавалось за Египтом, чему несомненным свидетельством считались глазурованные стеклом фаянсовые плитки внутренних облицовок пирамиды Джессера (середина III тысячелетия до н. э.); к ещё более раннему периоду (первой династии фараонов) относятся находки фаянсовых украшений (см. выше), то есть стекло существовало в Египте уже 5 тысяч лет наза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гипетские стеклоделы плавили стекло на открытых очагах в глиняных мисках. Спёкшиеся куски бросали раскалёнными в воду, где они растрескивались, и эти обломки, так называемые фритты, растирались в пыль жерновами и снова плавилис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2" name="Picture 4" descr="Вторая половина 4 го века"/>
          <p:cNvPicPr/>
          <p:nvPr/>
        </p:nvPicPr>
        <p:blipFill>
          <a:blip r:embed="rId1"/>
          <a:stretch/>
        </p:blipFill>
        <p:spPr>
          <a:xfrm>
            <a:off x="5148360" y="1268280"/>
            <a:ext cx="3824280" cy="460872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8"/>
          <p:cNvSpPr/>
          <p:nvPr/>
        </p:nvSpPr>
        <p:spPr>
          <a:xfrm>
            <a:off x="5076720" y="595008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Древняя ваз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a3c1c"/>
                </a:solidFill>
                <a:latin typeface="Arial"/>
              </a:rPr>
              <a:t>Свойства стекл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46432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екло — неорганическое изотропное вещество, материал, известный и используемый с древнейших времён. Существует и в природной форме, в виде минералов (обсидиан — вулканическое стекло), но в практике — чаще всего, как продукт стеклоделия — одной из древнейших технологий в материальной культуре. Структурно — аморфное вещество, агрегатно относящееся к разряду — твёрдое тело. В практике присутствует огромное число модификаций, подразумевающих массу разнообразных утилитарных возможностей, определяющихся составом, структурой, химическими и физическими св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Picture 10" descr="62658_97"/>
          <p:cNvPicPr/>
          <p:nvPr/>
        </p:nvPicPr>
        <p:blipFill>
          <a:blip r:embed="rId1"/>
          <a:stretch/>
        </p:blipFill>
        <p:spPr>
          <a:xfrm>
            <a:off x="5003640" y="1484280"/>
            <a:ext cx="3672000" cy="25020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1" descr="puli"/>
          <p:cNvPicPr/>
          <p:nvPr/>
        </p:nvPicPr>
        <p:blipFill>
          <a:blip r:embed="rId2"/>
          <a:stretch/>
        </p:blipFill>
        <p:spPr>
          <a:xfrm>
            <a:off x="5076720" y="4149720"/>
            <a:ext cx="35989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55087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настоящее время разработаны материалы чрезвычайно широкого, поистине — универсального диапазона применения, чему служат и присущие изначально (например, прозрачность, отражательная способность, стойкость к агрессивным средам, красота и многие другие) и не свойственные ранее стеклу — синтезированные его качества (например — жаростойкость, прочность, биоактивность, управляемая электропроводность и т. д.). Различные виды стёкол используется во всех сферах человеческой деятельности: от строительства, изобразительного искусства, оптики, медицины — до измерительной техники, высоких технологий и космонавтики, авиации и военной техн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9" name="Picture 6" descr="glass"/>
          <p:cNvPicPr/>
          <p:nvPr/>
        </p:nvPicPr>
        <p:blipFill>
          <a:blip r:embed="rId1"/>
          <a:stretch/>
        </p:blipFill>
        <p:spPr>
          <a:xfrm>
            <a:off x="179280" y="3860640"/>
            <a:ext cx="4897440" cy="282924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7" descr="1"/>
          <p:cNvPicPr/>
          <p:nvPr/>
        </p:nvPicPr>
        <p:blipFill>
          <a:blip r:embed="rId2"/>
          <a:stretch/>
        </p:blipFill>
        <p:spPr>
          <a:xfrm>
            <a:off x="5364000" y="1844640"/>
            <a:ext cx="3618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cc99"/>
                </a:solidFill>
                <a:latin typeface="Times New Roman"/>
              </a:rPr>
              <a:t>Стеклообразующие веществ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стеклообразующим веществ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си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e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Ge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тори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AlF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7" descr="6"/>
          <p:cNvPicPr/>
          <p:nvPr/>
        </p:nvPicPr>
        <p:blipFill>
          <a:blip r:embed="rId1"/>
          <a:stretch/>
        </p:blipFill>
        <p:spPr>
          <a:xfrm>
            <a:off x="4211640" y="2133720"/>
            <a:ext cx="4753080" cy="38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500"/>
                            </p:stCondLst>
                            <p:childTnLst>
                              <p:par>
                                <p:cTn id="1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Garamond"/>
              </a:rPr>
              <a:t>Художественное стекло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140000" y="1125360"/>
            <a:ext cx="50036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Художественное стекло - очень давний промысел. Из стекла делали не только посуду, оконное стекло, линзы и другие утилитарные предметы, но и самые разные художественные издел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дувание стекла — операция, позволяющая из вязкого расплава получить различные формы — шары, вазы, бокал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жнейший рабочий инструмент стеклодува, его вдувальная трубка, это полая металлическая трубка длиной 1—1,5 м, на одну треть обшитая деревом и снабжённая на конце латунным мундштуком. Пользуясь трубкой, стеклодув набирает из печи расплавленное стекло, выдувает его в форме шара и формует. Готовое изделие отшибают от трубки на вилы и несут в отжигательную печь. Оставшийся от отшибания след (насадок, колпачок) приходится удалять шлифовко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26" name="Picture 4" descr="513640"/>
          <p:cNvPicPr/>
          <p:nvPr/>
        </p:nvPicPr>
        <p:blipFill>
          <a:blip r:embed="rId1"/>
          <a:stretch/>
        </p:blipFill>
        <p:spPr>
          <a:xfrm>
            <a:off x="179280" y="1125360"/>
            <a:ext cx="4105440" cy="25909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1" descr="904b6e03f2"/>
          <p:cNvPicPr/>
          <p:nvPr/>
        </p:nvPicPr>
        <p:blipFill>
          <a:blip r:embed="rId2"/>
          <a:stretch/>
        </p:blipFill>
        <p:spPr>
          <a:xfrm>
            <a:off x="179280" y="3789360"/>
            <a:ext cx="41054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950"/>
                            </p:stCondLst>
                            <p:childTnLst>
                              <p:par>
                                <p:cTn id="20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950"/>
                            </p:stCondLst>
                            <p:childTnLst>
                              <p:par>
                                <p:cTn id="20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950"/>
                            </p:stCondLst>
                            <p:childTnLst>
                              <p:par>
                                <p:cTn id="212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950"/>
                            </p:stCondLst>
                            <p:childTnLst>
                              <p:par>
                                <p:cTn id="2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950"/>
                            </p:stCondLst>
                            <p:childTnLst>
                              <p:par>
                                <p:cTn id="22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7f70f"/>
                </a:solidFill>
                <a:latin typeface="Arial Black"/>
              </a:rPr>
              <a:t>Виды стекол</a:t>
            </a:r>
            <a:endParaRPr b="1" lang="en-US" sz="6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590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зависимости от основного используемого стеклообразующего вещества, стекла бывают оксидными фторидными, сульфидными и т. д. Базовый метод получения силикатного стекла заключается в плавлении смеси кварцевого песка (Si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, соды (Na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и извести (CaO). В результате получается химический комплекс с составом Na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O*CaO*6Si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варцевое стекло получают плавлением кремнезёмистого сырья высокой чистоты (обычно кварцит, горный хрусталь), его химическая формула — Si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Кварцевое стекло может быть также природного происхождения, образующееся при попадании молнии в залежи кварцевого пес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тическое стекло — применяют для изготовления линз, призм, кювет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имико-лабораторное стекло — стекло, обладающее высокой химической и термической устойчивост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Picture 4" descr="orhideya"/>
          <p:cNvPicPr/>
          <p:nvPr/>
        </p:nvPicPr>
        <p:blipFill>
          <a:blip r:embed="rId1"/>
          <a:stretch/>
        </p:blipFill>
        <p:spPr>
          <a:xfrm>
            <a:off x="5651640" y="4437000"/>
            <a:ext cx="2952720" cy="2214720"/>
          </a:xfrm>
          <a:prstGeom prst="rect">
            <a:avLst/>
          </a:prstGeom>
          <a:ln w="0">
            <a:noFill/>
          </a:ln>
        </p:spPr>
      </p:pic>
      <p:sp>
        <p:nvSpPr>
          <p:cNvPr id="731" name="Text Box 6"/>
          <p:cNvSpPr/>
          <p:nvPr/>
        </p:nvSpPr>
        <p:spPr>
          <a:xfrm>
            <a:off x="5651640" y="4508640"/>
            <a:ext cx="29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ПТИЧЕСКОЕ  СТЕК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2" name="Picture 7" descr="000000013"/>
          <p:cNvPicPr/>
          <p:nvPr/>
        </p:nvPicPr>
        <p:blipFill>
          <a:blip r:embed="rId2"/>
          <a:stretch/>
        </p:blipFill>
        <p:spPr>
          <a:xfrm>
            <a:off x="5724360" y="1268280"/>
            <a:ext cx="2808360" cy="309744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9"/>
          <p:cNvSpPr/>
          <p:nvPr/>
        </p:nvSpPr>
        <p:spPr>
          <a:xfrm>
            <a:off x="5940360" y="3933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варцевое стек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9000"/>
                            </p:stCondLst>
                            <p:childTnLst>
                              <p:par>
                                <p:cTn id="261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8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7f70f"/>
                </a:solidFill>
                <a:latin typeface="Arial Black"/>
              </a:rPr>
              <a:t>Источники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28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аткая химическая энциклопед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ульц М. М., Мазурин О. В. «Современные представления о строении стёкол и их свойствах». Л.: Наука. 19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 И. Ожован. Топологические характеристики связей в окисных системах Si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Ge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и переходе стекло-жидкость. ЖЭТФ, 130 (5) 944—956 (200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Picture 7" descr="steklo-bear"/>
          <p:cNvPicPr/>
          <p:nvPr/>
        </p:nvPicPr>
        <p:blipFill>
          <a:blip r:embed="rId1"/>
          <a:stretch/>
        </p:blipFill>
        <p:spPr>
          <a:xfrm>
            <a:off x="4284720" y="2060640"/>
            <a:ext cx="46800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77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770" fill="hold"/>
                                        <p:tgtEl>
                                          <p:spTgt spid="7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5" dur="77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5:26:04Z</dcterms:created>
  <dc:creator>SamLab.ws</dc:creator>
  <dc:description/>
  <dc:language>en-US</dc:language>
  <cp:lastModifiedBy>Павел</cp:lastModifiedBy>
  <dcterms:modified xsi:type="dcterms:W3CDTF">2010-06-08T16:04:17Z</dcterms:modified>
  <cp:revision>12</cp:revision>
  <dc:subject/>
  <dc:title>Стекло </dc:title>
</cp:coreProperties>
</file>